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B90-6D7B-4F5B-92C9-455BCC57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819-D2C7-4742-91EC-CB4DDEBD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C46-B26D-4679-9B93-FD3027A7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FED8-3039-4D6F-83C3-9C740709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E4A-CEDC-4681-8AF5-2D84C5C7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AD1-5371-449C-A6B8-BADED0D7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791-CC7A-4ACC-91AB-B0FE4647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329-AAAB-4F9B-9CDD-8D6C7D31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A55-6E74-4719-81D0-12B0B7D3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F82-3ECD-4E98-B5A2-741FA8BB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497-FEF5-42F4-8FAF-58C8395A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42F-B220-4A9D-958B-50C956A0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DA16-46E9-4763-B3DE-DECC8238A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,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,Bold"/>
              </a:rPr>
              <a:t>Err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difference between a measured or calculated (reported) value and the tru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recognize that errors are present in their professional lives and must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dentify types of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merically express the magnitude of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cognize the confidence that may be placed in a printed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error i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e scale at the grocery store has water on it. (The water runs off the produ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keeper sneezes at the moment the runners cross the finish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oline sloshed from your tank prior to the pump shutting off (mpg calcul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with a 100 ft tape that is actually 99.01 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wrong key(s) on a calculator during a long calc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Defini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ways to numerically describe err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True err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ed value – Tru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Fractional err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error / Tru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Percent err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al error * 10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An exampl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true error, fractional error and percent error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14710" t="59263" r="22553" b="1852"/>
          <a:stretch/>
        </p:blipFill>
        <p:spPr>
          <a:xfrm>
            <a:off x="1828800" y="3200400"/>
            <a:ext cx="4876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oting results and error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 state error to one significant figure (although if one or two then two significant figures may be used)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nt figures may be us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ote result to same significance as err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ote result to same significance as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ing scientific notation, quote                 value and error with the same expon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y are errors importan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easurements of body temperature before and after a drug is admini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.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38.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emperature rise significant? – It depends on the associated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8.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(38.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-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8.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(38.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– not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Simple Error Analys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a rod of unknown length is measured with a standard meter st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 5 minutes as a team completing this 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said about the length of the rod is report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to 8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 to 7.6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7 to 7.59 c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Systematic </a:t>
            </a: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Err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,Bold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,BoldItalic"/>
              </a:rPr>
              <a:t>Systematic Erro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errors that can be attributed to some regular outside occur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must be aware of the presence of systematic errors and eliminate those possible and try to quantify and correct for those rem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Systematic </a:t>
            </a: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Err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rror associated with systematic errors can be corrected if the source and magnitude are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ing measurements will </a:t>
            </a: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 or reduce systematic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Systematic </a:t>
            </a: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throughout a set of readings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ant throughout a set of read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sult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which is incorrectly calibrate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easurements are performed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ments are per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 average (mean) of measured valu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se average (mean) of measured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part from correct value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depart from correct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spot presence of systemat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 to spot presence of syste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in an experiment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rors in an e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Random </a:t>
            </a: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Err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,Bold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,BoldItalic"/>
              </a:rPr>
              <a:t>Accidental (Random) Errors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that occur in a random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f accidental errors is evident by the </a:t>
            </a: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scat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asur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Random </a:t>
            </a: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ssible to predict the magnitude and sign of the accidental error present in any one measur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ing measurements and averaging the results will reduce the random error in the aver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Random </a:t>
            </a: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5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rror that varies between successiv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55000"/>
              </a:lnSpc>
              <a:spcBef>
                <a:spcPts val="524"/>
              </a:spcBef>
              <a:spcAft>
                <a:spcPts val="524"/>
              </a:spcAft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ally likely to be positive or negativ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qually likely to be positive or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55000"/>
              </a:lnSpc>
              <a:spcBef>
                <a:spcPts val="524"/>
              </a:spcBef>
              <a:spcAft>
                <a:spcPts val="524"/>
              </a:spcAft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ways present in an experim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present in an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ce obvious from distribution of values    obtain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45000"/>
              </a:lnSpc>
              <a:spcBef>
                <a:spcPts val="349"/>
              </a:spcBef>
              <a:spcAft>
                <a:spcPts val="524"/>
              </a:spcAft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minimised by performing multip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minimised by performing mult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s of the same quantity or b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ments of the same quantity or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5000"/>
              </a:lnSpc>
              <a:spcBef>
                <a:spcPts val="14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one quantity as function of  secon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ing one quantity as function of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5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y and performing a straight line fit of the dat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55000"/>
              </a:lnSpc>
              <a:spcBef>
                <a:spcPts val="524"/>
              </a:spcBef>
              <a:spcAft>
                <a:spcPts val="524"/>
              </a:spcAft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 referred to as read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2:25:46Z</dcterms:created>
  <dc:creator>Division of Technology</dc:creator>
  <dc:description/>
  <dc:language>en-US</dc:language>
  <cp:lastModifiedBy>Gandell, Allen</cp:lastModifiedBy>
  <dcterms:modified xsi:type="dcterms:W3CDTF">2015-07-27T00:09:21Z</dcterms:modified>
  <cp:revision>11</cp:revision>
  <dc:subject/>
  <dc:title>Error</dc:title>
</cp:coreProperties>
</file>